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9933-74FE-46A6-B4C4-B04EA9A3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7F3-5F92-4B4E-99A5-DB21749E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CD0D-7864-419B-91B0-B41795BD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7F32-B9A3-4840-B7A1-A3E83485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50E-173C-407D-A301-D67DB6EF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A7D5-ABD4-4CC8-B1C0-625D7AC9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5A9-3209-453C-8F56-B04F335C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B15-4235-4A49-A277-A5D7AAA5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5899-9466-4843-ABC1-629AFA09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A01A-0EF4-4983-83C2-CEC264D2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611-DA08-477C-AC25-E854BC66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1A1C-3A28-458A-B127-21A7FF8D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0E54-AE10-4E86-AB9D-34C3AC2BA7E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Practice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588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–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ι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-142920" y="127944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tense are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δωκ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διδ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εδο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ιθε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εθησε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ιδω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814480" y="182088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(Act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786040" y="242244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 (Act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2803680" y="303048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fect (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2800440" y="366696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(Active Indicativ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2803680" y="490860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(Act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2800440" y="427212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 (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Practice 2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588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–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ι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-142920" y="1279440"/>
            <a:ext cx="500076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tense are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θω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οντ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ἱστη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ταθησον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τησ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στησ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2814480" y="182088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(Active Subjunctiv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ur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786040" y="242244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(Active Participle Masculine Plural Accus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2803680" y="366084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(Act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2800440" y="429732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 (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803680" y="553896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(Active Indicati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2800440" y="490212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(Active Imperati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42920" y="1285920"/>
            <a:ext cx="4500360" cy="55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δοασιν τον μισθον αὐτων τοι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τρατιωτα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Ἰησους ἀνεστησεν τον νεκ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στημεν μετα του κυριου ἐπ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ῳ ὀρ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φεντες οὐκ ὑπεστρεψ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φη ὁτι ἑστηκεν ἐκ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... ἑως ἀν θω τους ἐχθρους σου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ο των ποδων 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4313160" y="197640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are giving the soldiers their p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4313160" y="286056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esus raised the dead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313160" y="3300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stood with the lord on th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unt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4327560" y="4200480"/>
            <a:ext cx="503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y had left they did not turn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4330800" y="510048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said he was standing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4329000" y="553572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 until I place your enemies un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r fe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87200" y="1143000"/>
            <a:ext cx="4214880" cy="59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ος μοι τον ἀρτον της ζω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τας ὁ ἀποστολος ἐκηρυσσεν τῳ ὀχλ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handed over the teaching t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el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made the sick man stand up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she had dismissed the crowd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e began to p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ile he was giving them the wine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taught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4286160" y="183348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ive me the bread of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286160" y="228924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he had stood up, the apostl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gan to preach to the crow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4330800" y="314316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αρεδωκαν την διδαχην το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εσβυτεροι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4330800" y="405612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στησεν τον ἀσθενη ἐν τῃ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υναγωγ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4330800" y="4929120"/>
            <a:ext cx="481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γεισα τον ὀχλον προσηυχετο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(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or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ρξατο προσευχεσθα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4330800" y="5815080"/>
            <a:ext cx="45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δους τον οἰνον αὐτοις ἐδιδαξε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(αὐτου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Practice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41200" y="2588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2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-142920" y="1279440"/>
            <a:ext cx="500076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λανα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επληρωμεν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ζ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δικαιου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ισησ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γαπ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2814480" y="182088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Middle/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2786040" y="242244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fect Middle/Passive Participle Masc. Nom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2803680" y="364644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Active Indicativ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2800440" y="4282920"/>
            <a:ext cx="63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 Act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.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2803680" y="552456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Active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800440" y="488808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 Active Indicati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Practice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1200" y="2588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2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-142920" y="127944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νικη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ιμησου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ἠρωτησ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ιμᾳ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ταυρου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ειν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2800440" y="182088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Act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2786040" y="242244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 Act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2803680" y="303048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Act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800440" y="366696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Active Indicati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2803680" y="490860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 Act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2800440" y="4272120"/>
            <a:ext cx="60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Middle/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09:22:36Z</dcterms:created>
  <dc:creator>Sarah</dc:creator>
  <dc:description/>
  <dc:language>en-US</dc:language>
  <cp:lastModifiedBy>Sarah</cp:lastModifiedBy>
  <dcterms:modified xsi:type="dcterms:W3CDTF">2009-03-03T23:21:05Z</dcterms:modified>
  <cp:revision>24</cp:revision>
  <dc:subject/>
  <dc:title>Slide 1</dc:title>
</cp:coreProperties>
</file>